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644-5D1E-4F45-AB6E-264C3A07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19E-4F33-400F-BD2F-CA353E4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A78-BE0F-4696-BDBC-76A6DD82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89D-7AE9-43DB-B44F-A904094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53E-5D73-4FAD-9215-0A075FE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F85-6B38-466F-ACFD-983EA74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32E-3672-4353-B992-F5AD45ED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5B9-978A-42CC-830F-F7EC10B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98A-33C3-44B5-AEC3-2B274ED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B7D-1F03-4E20-91C3-6252197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DF4B-CAE8-4CE3-AF74-6476435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05E-646F-43BE-A839-2EA604D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9E28-BF01-4052-B2CB-3DDFC779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hn_Wilkes_Booth" TargetMode="External"/><Relationship Id="rId2" Type="http://schemas.openxmlformats.org/officeDocument/2006/relationships/hyperlink" Target="http://www.law.umkc.edu/faculty/projects/ftrials/lincolnconspiracy/booth.html" TargetMode="External"/><Relationship Id="rId3" Type="http://schemas.openxmlformats.org/officeDocument/2006/relationships/hyperlink" Target="http://en.wikipedia.org/wiki/Abraham_Lincoln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stin Fuh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tee Kaltr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8288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174000">
            <a:off x="838080" y="3885840"/>
            <a:ext cx="162720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415000">
            <a:off x="1752120" y="4724280"/>
            <a:ext cx="457200" cy="26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33720" y="4724280"/>
            <a:ext cx="9504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0046 C 0.02084 -0.00555 0.03438 -0.01156 0.05504 -0.0333 C 0.0757 -0.05503 0.08212 -0.08486 0.13125 -0.13064 C 0.18038 -0.17642 0.31597 -0.25017 0.35035 -0.30821 C 0.38472 -0.36624 0.32743 -0.43353 0.33768 -0.47931 C 0.34792 -0.52509 0.38872 -0.55861 0.41233 -0.58289 C 0.43594 -0.60717 0.45764 -0.62798 0.47899 -0.6252 C 0.50035 -0.62243 0.52813 -0.57665 0.5408 -0.56601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coln’s Assass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shot Lincoln in the back of the head with a gun while he was watching a play “Our American Cou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didn’t survive and they were going to sue the medical provider because they thought that he might have pushed the bullet in farther causing him to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John_Wilkes_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umkc.edu/faculty/projects/ftrials/lincolnconspiracy/booth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braham_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John Wilkes Bo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s assass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 childh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Ma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38 and died April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65 at age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 out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never married, his mom Mary Ann Holmes was his fathers mi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2291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’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joined the Virginia militia company that was assisted in the capture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know for his acting, and both the Northern and Southern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know Booth for being the guy who assassinated Lincoln, but that’s no the only thing he was known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theatrical potential at a young age, he also was emotionally in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pl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just going to first abduct him on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 he decided he would just be better off killing the man so that’s what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a couple of his friend or workers or something together and they all had one person they were supposed to go for and do someth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President-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 of State-William St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February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09 in Hardin County,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4 children and only 1 lived to reach mat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Mary Todd and prominent slave-owning family from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came to women Lincoln wasn’t a lucky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st his wife with the typhoi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was rejected a coupl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6:10:42Z</dcterms:created>
  <dc:creator>kirstinjfuhrman</dc:creator>
  <dc:description/>
  <dc:language>en-US</dc:language>
  <cp:lastModifiedBy>kirstinjfuhrman</cp:lastModifiedBy>
  <dcterms:modified xsi:type="dcterms:W3CDTF">2009-03-26T15:53:59Z</dcterms:modified>
  <cp:revision>6</cp:revision>
  <dc:subject/>
  <dc:title>John Wilkes Booth</dc:title>
</cp:coreProperties>
</file>